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2C7-A108-4C71-A197-A37B7BBF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1D4-C42C-4A52-8CE8-4AE5DECA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FB6-E7A6-446D-891D-5292B8AA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C91-2A30-42B1-8BEC-42C02F1D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42B7-378D-407E-9636-0D0A7FC4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018B-99C9-4767-822E-994E4AED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D897-6CCF-443D-BA50-AADCD4A3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14DE-B393-4768-98E6-96A01E88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C85C-2E34-4670-AACD-4577C498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0920-1D1B-42A6-9A29-931E4FDB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A8B5-6289-403D-A1A1-09CB1084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FF6-9524-4A84-A922-F0689225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9944-5B04-4E8C-8096-5281997E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8523-DF21-47B2-A564-E379E028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F1B2-C6E5-4D7D-895C-8B1CD0E4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D7F9-9EDA-448B-85EB-DC4DBCD2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3AA9-8A7A-4C00-846B-7CCD5097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719E-39A1-4CE9-AE68-90847794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B7C1-F59B-49ED-BA63-4DD98395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7C45E-2771-424A-80EB-77103E92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1597E-E4BE-4296-8F76-454B91F4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3B0EC-56CF-4929-A36C-853D7AE8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197-7BDB-4ED2-8F87-1CD2652B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B26D5-EE11-48C9-8A90-FA636D1D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3CC94-4361-47FB-AB13-23E0466C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10F4D-CE4D-43CA-AEDB-510AFEE2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51018-53C4-4F45-B65B-FAC5F512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77FB0-BDF8-4745-9D09-7C965E89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48B0-DBB1-47FC-AB56-3A200D23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6232-58B9-49CE-B0EF-41F933CC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C7982-7836-4FE2-98B9-4CE6F98B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F63B1-E3BF-4E94-9B1A-214E0D90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76A96-68FB-44D5-A79F-9BD6F1C8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581-7196-4BF0-8436-7C31C0F6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D9971-2A44-410F-AB9E-86E87041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2E92-76D6-4306-8E17-CBC53A23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7EB9B-C213-44BA-ABF2-445D392B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38C1D-B4E9-41C9-B09E-CC872FB1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2850A-E864-47CE-9314-6F06E68D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C66A5-7694-4AFF-B237-951174D0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2D15A-CE28-497A-B570-72278663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7BA3F-C1EB-4FCB-AC33-CD782CB8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43BC8-DF01-48F0-B54C-BB4A08A0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083-DDD0-4847-91AF-5AAEE103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C3BA-89E1-4663-BA5A-0376F1B6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B38-BD36-4C9D-A4C4-801B3E37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5C6-B69C-40BF-BA46-2A23276D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5EE-F68E-4EA8-A9C4-27F17923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02B4-5DCF-4221-AD99-5F16F3E9A82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5307-7A30-426D-A77F-DD1BF82AC28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13B7-C6F4-4B03-88D2-5AF46D92FA9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0421-698C-456D-97B1-FCDA8BF36B9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fOl7lrNuOnk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d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крипција и транслација-анимација процес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проблемских задата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мацијa транскрипције и трансл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8360" y="2924280"/>
            <a:ext cx="8229600" cy="1296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www.youtube.com/watch?v=fOl7lrNuOn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и део вежб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пробле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х задатака  3.12, 3.14 и 3.15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бирка решених задатака из генетике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. 20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20:44:24Z</dcterms:created>
  <dc:creator>Olivera Milosevic-Djordjevic</dc:creator>
  <dc:description/>
  <dc:language>en-US</dc:language>
  <cp:lastModifiedBy>Olivera Milošević-Đorđević</cp:lastModifiedBy>
  <dcterms:modified xsi:type="dcterms:W3CDTF">2023-08-28T16:56:30Z</dcterms:modified>
  <cp:revision>136</cp:revision>
  <dc:subject/>
  <dc:title>Функција наследне основе  Репликација, транскрипција, транслација</dc:title>
</cp:coreProperties>
</file>